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83C-4D38-48DD-B525-07BEAD9B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45A-F523-4739-A695-EBCF5544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890-9220-4C7B-BC93-F99D740C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0E2-9AE4-407F-B627-F5E73308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345-BB0F-454A-A804-585169A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A94-2176-4D3C-AE50-C785A9F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C66-DBA3-43D6-82A4-67B77A0D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2AF-4497-48F4-AB45-E7985124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ECC-FD34-46AB-8D9A-28EFF55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C58-1132-400A-939C-24C5565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C77-D6CB-495F-BCB4-21A6295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C1E-184B-4668-BCFC-5F0F670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9EAF-A1B0-420F-A2E6-51AD1A8EC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olf Hit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 Eric Fischl &amp; Travis Cy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1889 in Buaunau A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oped out of high school in 19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n early age anti-Semite of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ed in Bavarian Army in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ward bravery medals in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promoted to private firs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nded for a year in gas attack from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d as a political spokesman and agent in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ttention at a public speaker in 19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attempt to control government in early 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se to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anuary 30, 1933, Hitler was appointed chancel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, 1933 boycotted anti-Jew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passed April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iminating Jews in public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recognized party in Germany (Na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commander in chief of the Wehrmacht (German arm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Germans took over Austria by force on March 13, 1938, nearly 200,000 Jews were added to the Re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ing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million Jews killed between 1942-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hem for medical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33, SS man killed and arreste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Jews killed than S.U. POW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hwitz was biggest of Consecration Cam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Succes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state dictator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Nazi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 I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 of “Mein Kamp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 for President of Germany in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ominee for peace prize for efforts to help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rmany will either be a world power or will not be at al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f today I stand here as a revolutionary, it is as a revolutionary against the Rev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t is not truth that matters, but vict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ccess is the sole earthly judge of right and wro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rt of leadership… consists in consolidating the attention of the people against a single adversary and taking care that nothing will split up that attention”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44:57Z</dcterms:created>
  <dc:creator>10704</dc:creator>
  <dc:description/>
  <dc:language>en-US</dc:language>
  <cp:lastModifiedBy>10704</cp:lastModifiedBy>
  <dcterms:modified xsi:type="dcterms:W3CDTF">2009-12-17T15:18:43Z</dcterms:modified>
  <cp:revision>6</cp:revision>
  <dc:subject/>
  <dc:title>Adolf Hitler </dc:title>
</cp:coreProperties>
</file>